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73EEA-24B6-46DC-8453-2219D490CF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675240"/>
            <a:ext cx="7772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BC7F1-26EF-4880-86F5-E88314E94F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67524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67524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32118-393C-4FFA-9D40-4CF308FD3E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2852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2852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67524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67524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67524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61392-0E98-4FC8-9F3C-92B2C10DF6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66BAC-6813-4647-AB5E-5F5E12DF91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23CE1-FE11-4A5C-8822-8E352688A9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37926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28520"/>
            <a:ext cx="37926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0F883-AE64-4A9D-8CF3-718C1D2746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97590-FC4F-456A-8ACB-A376CCF916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1360" y="399600"/>
            <a:ext cx="7772400" cy="23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4B3A1-6F77-4858-941D-CD943CD560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28520"/>
            <a:ext cx="37926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67524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9B1BE-726C-4F96-9F9A-2890E64F76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37926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67524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19FB6-52A6-44F3-A586-D4DE95B401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75240"/>
            <a:ext cx="7772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6CA50-E75C-4387-BC8A-A24F0C0B75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1100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86F7-16EB-4E6D-AB20-5E01A3605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304920" y="971640"/>
            <a:ext cx="843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06440" y="6172200"/>
            <a:ext cx="843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implescalar.com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Narrow"/>
              </a:rPr>
              <a:t>Simplescalar’s out-of-order simulator (v3)</a:t>
            </a: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CE1773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dreas Moshovo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Visit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 Narrow"/>
                <a:hlinkClick r:id="rId1"/>
              </a:rPr>
              <a:t>www.simplescalar.com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for additional inf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escalar was developed by Todd Austin now at Michigan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rst version while at UWisconsin. Builds on the experience with other simulators that existed at the time at UWisc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troduced many simulation speed enhancement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an be used for free for academic purpose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fetch(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r (i=0, branch_cnt=0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* fetch up to as many instruction as the DISPATCH stage can decode */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 &lt; (ruu_decode_width * fetch_speed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* fetch until IFETCH -&gt; DISPATCH queue fills */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amp;&amp; fetch_num &lt; ruu_ifq_siz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* and no IFETCH blocking condition encountered */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amp;&amp; !done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++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IN LOOP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one is used for enforcing fetch break condition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ly this happens only when number of branches exceeds fetch_spee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fetch() – Invalid Address Check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(ld_text_base &lt;= fetch_regs_P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&amp;&amp; fetch_regs_PC &lt; (ld_text_base+ld_text_size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&amp;&amp; !(fetch_regs_PC &amp; (sizeof(md_inst_t)-1))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/* read instruction from memory */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D_FETCH_INST(inst, mem, fetch_regs_PC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fetch() – I-Cache Acces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f (cache_il1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* access the I-cache */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at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= cache_access(cache_il1, Read, IACOMPRESS(fetch_regs_PC)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LL, ISCOMPRESS(sizeof(md_inst_t)), sim_cycle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LL, NULL)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f (lat &gt; cache_il1_lat)  last_inst_missed = TRUE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f (itlb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lb_lat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= cache_access(itlb, Read, IACOMPRESS(fetch_regs_PC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at = MAX(tlb_lat, lat)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f (lat != cache_il1_lat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* I-cache miss, block fetch until it is resolved */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ruu_fetch_issue_delay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+= lat - 1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im_main()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 ruu_fetch() cod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(!</a:t>
            </a:r>
            <a:r>
              <a:rPr b="1" lang="en-US" sz="2800" spc="-1" strike="noStrike">
                <a:solidFill>
                  <a:srgbClr val="990000"/>
                </a:solidFill>
                <a:latin typeface="Arial Narrow"/>
              </a:rPr>
              <a:t>ruu_fetch_issue_dela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fetch(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fetch_issue_delay--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dispatch(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next inst from fetch buff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unctionally execute the instruc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plit load/stores int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. Address calcul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. Memory oper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name input dependenc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name target regist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lace into scheduler RUU[] and load/store LSQ[] scheduler if necessa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termine if miss-predic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ssue if read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Functional and timing execution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gnore miss-predicts for the time be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escalar executes all instructions in-order during dispatc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y update registers and memory at that ti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n it tries to determine when they would actually execute taking into consideration dependences and latenci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s is simulation so we can do thi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s: fast, easy to debu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s: timing model can be wrong and the simulation will not produce incorrect resul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Handling Miss-Prediction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wo modes: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&amp; miss-speculat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dispatch switches to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when it decodes a miss-predicted branc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now about it because it executes the branch and figures out whether the prediction is correc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lobal “spec_mode” is 1 when in miss-speculated m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witch back to correct when branch is resolv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Handling Miss-Prediction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eep two states: correct and miss-speculat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r regs there is regs_R[] and spec_regs_R[] (and _F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r memory, there is mem_access and spec_mem_acces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peculative memory updates are kept in a temporary hash tab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ads access this table first and then memory if need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ores only write to it when in spec mod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in correct state access the correct st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in spec_mode access the miss-speculated st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ffect: No need to restore st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correct, speculative updates do not clobber the correct stat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en squashing we simply return to the correct st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.e., disregard the spec. hash mem table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dispatch(): reading from fetch buffer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st = fetch_data[fetch_head].IR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gs.regs_PC = fetch_data[fetch_head].regs_PC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d_PC = fetch_data[fetch_head].pred_PC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r_update_ptr = &amp;(fetch_data[fetch_head].dir_update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ck_recover_idx = fetch_data[fetch_head].stack_recover_idx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pseq = fetch_data[fetch_head].ptrace_seq; ignore all pseq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They are for a “debugging/tracing” facility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cheduler Structur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ircular buffer named RUU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ach entry contai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instruction, PC and pred_P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alid bits for input regist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linked list of consumers per target regist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ranch prediction back-point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us flags, e.g., what state is this in, is it an address o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 instruction can execute when all source registers are available: readyq in ruu_issue(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n writeback: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alk target list and set bits of consumers and places them on readyq if they become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What is sim-outorder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pproximate model of dynamically scheduled process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ulates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 and D cach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ranch predic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 and D TLBs (constant latency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bined Reorder buffer and schedul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gister renam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pport for speculative execution after branch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ad/Store schedul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cheduler structure: RUU_station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truct RUU_st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d_inst_t IR;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instruction bits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num md_opcode op;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decoded instruction opcode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d_addr_t PC, next_PC, pred_PC;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inst PC, next PC, predicted PC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in_LSQ;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non-zero if op is in LSQ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ea_comp;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non-zero if op is an addr comp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recover_inst;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start of mis-speculation?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stack_recover_idx;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non-speculative TOS for RSB pred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truct bpred_update_t dir_update;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bpred direction update info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spec_mode;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non-zero if issued in spec_mode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d_addr_t addr;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effective address for ld/st's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ST_TAG_TYPE tag;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RUU slot tag, increment to squash operation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ST_SEQ_TYPE seq;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used to sort the ready list and tag inst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queued;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operands ready and queued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issued;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operation is/was executing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completed;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operation has completed execution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onames[MAX_ODEPS];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output logical names (NA=unused)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truct RS_link *odep_list[MAX_ODEPS];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chains to consuming operations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idep_ready[MAX_IDEPS];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input operand ready?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cheduler Stat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[]: in-order instructions to be execut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located at dispatc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allocated at commit or on squash (tracer_recover(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head, RUU_tail, RUU_num, RUU_siz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SQ[]: in order loads and stor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me as abov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heduling is done by comparing address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re on this so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Determining Dependenc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link_idep(rs, /* idep_ready[] index */0, reg_name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install_odep (rs, /* odep_list[] index*/0, reg_name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name table: CREATE_VECTOR(reg_name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turns pointer to RUU entry of producer or NULL if result is availab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ctual data type is CV_link (RUU_station *, next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T_CREATE_VECTOR(reg_name, RUU station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ke this RUU_Station the current producer of reg_na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wo copies of the create vector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reate_vector and spec_create_vect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naming Non-Load/Store Instruction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link_idep(rs, /* idep_ready[] index */0, in1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link_idep(rs, /* idep_ready[] index */1, in2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link_idep(rs, /* idep_ready[] index */2, in3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install_odep(rs, /* odep_list[] index */0, out1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install_odep(rs, /* odep_list[] index */1, out2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namind loads/stor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rs, /* idep_ready[] index */0, NA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rs, /* idep_ready[] index */1,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2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rs, /* idep_ready[] index */2,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3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nstall_odep(rs, /* odep_list[] index */0, </a:t>
            </a:r>
            <a:r>
              <a:rPr b="1" lang="en-US" sz="2000" spc="-1" strike="noStrike">
                <a:solidFill>
                  <a:srgbClr val="990000"/>
                </a:solidFill>
                <a:latin typeface="Arial Narrow"/>
              </a:rPr>
              <a:t>DTMP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nstall_odep(rs, /* odep_list[] index */1, NA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lsq,/* idep_ready[] index */STORE_OP_INDEX/* 0 */,in1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lsq, /* idep_ready[] index */STORE_ADDR_INDEX/* 1 */, </a:t>
            </a:r>
            <a:r>
              <a:rPr b="1" lang="en-US" sz="2000" spc="-1" strike="noStrike">
                <a:solidFill>
                  <a:srgbClr val="990000"/>
                </a:solidFill>
                <a:latin typeface="Arial Narrow"/>
              </a:rPr>
              <a:t>DTMP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lsq, /* idep_ready[] index */2, NA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nstall_odep(lsq, /* odep_list[] index */0,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ut1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nstall_odep(lsq, /* odep_list[] index */1,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ut2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dep_link (rs, idep_num, idep_name) 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ruct CV_link head; struct RS_link *link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idep_name == NA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idep_ready[idep_num] = TRUE, return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ead = CREATE_VECTOR(idep_name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!head.r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idep_ready[idep_num] = TRUE, return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idep_ready[idep_num] = FALSE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LINK_NEW(link, rs); link-&gt;x.opnum = idep_num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nk-&gt;next = head.rs-&gt;odep_list[head.odep_num]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ead.rs-&gt;odep_list[head.odep_num] = link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CREATE_VECTOR(N): Register Rename Table Read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(BITMAP_SET_P(use_spec_cv, CV_BMAP_SZ, (N)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? spec_create_vector[N]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: create_vector[N]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se_spec_cv(N) is set when we rename the target register N while in spec_mod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t is a bit vector: one bit per regist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nstall_odep(rs, odep_num, odep_name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ruct CV_link cv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odep_name == NA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onames[odep_num] = NA, return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onames[odep_num] = odep_name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odep_list[odep_num] = NULL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* indicate this operation is latest creator of ODEP_NAME */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VLINK_INIT(cv, rs, odep_num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T_CREATE_VECTOR(odep_name, cv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ET_CREATE_VECTOR(odep_name, cv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t the current producer of register odep_name to the RUU entry stored in the cv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T_CREATE_VECTOR(N, L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f (spec_mode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TMAP_SET(use_spec_cv, CV_BMAP_SZ, (N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pec_create_vector[N] = (L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create_vector[N] = (L)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No need to keep old mapping around since we never have to resto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dispatch(): determining ready to issue inst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f (OPERANDS_READY(rs)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/* eff addr computation ready, queue it on ready list */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adyq_enqueue(rs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/* issue may continue when the load/store is issued */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SLINK_INIT(last_op, lsq); // for in-order simul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/* issue stores only, loads are issued by lsq_refresh() */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f (((MD_OP_FLAGS(op) &amp; (F_MEM|F_STORE)) == (F_MEM|F_STORE)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&amp;&amp; OPERANDS_READY(lsq)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/* put operation on ready list, ruu_issue() issue it later */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adyq_enqueue(lsq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How is sim-outorder structured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52040" y="2021040"/>
            <a:ext cx="72324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e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103120" y="2021040"/>
            <a:ext cx="7081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441240" y="2021040"/>
            <a:ext cx="9169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030640" y="2021040"/>
            <a:ext cx="7081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365520" y="2021040"/>
            <a:ext cx="5832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7549560" y="2021040"/>
            <a:ext cx="98676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3521160" y="2666880"/>
            <a:ext cx="91692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5033880" y="2666880"/>
            <a:ext cx="7369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7548480" y="2666880"/>
            <a:ext cx="7369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782280" y="2971800"/>
            <a:ext cx="10008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1909800" y="2971800"/>
            <a:ext cx="79200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-T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3157200" y="3809880"/>
            <a:ext cx="111024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5756760" y="3657600"/>
            <a:ext cx="111024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7093080" y="3657600"/>
            <a:ext cx="90144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-T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5278320" y="4876920"/>
            <a:ext cx="16956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20"/>
          <p:cNvSpPr/>
          <p:nvPr/>
        </p:nvSpPr>
        <p:spPr>
          <a:xfrm>
            <a:off x="160020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21"/>
          <p:cNvSpPr/>
          <p:nvPr/>
        </p:nvSpPr>
        <p:spPr>
          <a:xfrm>
            <a:off x="297180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71800" y="2286000"/>
            <a:ext cx="45720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23"/>
          <p:cNvSpPr/>
          <p:nvPr/>
        </p:nvSpPr>
        <p:spPr>
          <a:xfrm>
            <a:off x="44956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4"/>
          <p:cNvSpPr/>
          <p:nvPr/>
        </p:nvSpPr>
        <p:spPr>
          <a:xfrm>
            <a:off x="58672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25"/>
          <p:cNvSpPr/>
          <p:nvPr/>
        </p:nvSpPr>
        <p:spPr>
          <a:xfrm>
            <a:off x="70102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6"/>
          <p:cNvSpPr/>
          <p:nvPr/>
        </p:nvSpPr>
        <p:spPr>
          <a:xfrm>
            <a:off x="4495680" y="2895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27"/>
          <p:cNvSpPr/>
          <p:nvPr/>
        </p:nvSpPr>
        <p:spPr>
          <a:xfrm flipV="1">
            <a:off x="5943600" y="24382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28"/>
          <p:cNvSpPr/>
          <p:nvPr/>
        </p:nvSpPr>
        <p:spPr>
          <a:xfrm>
            <a:off x="5486400" y="3124080"/>
            <a:ext cx="9907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29"/>
          <p:cNvSpPr/>
          <p:nvPr/>
        </p:nvSpPr>
        <p:spPr>
          <a:xfrm flipH="1">
            <a:off x="6629400" y="3048120"/>
            <a:ext cx="12952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0"/>
          <p:cNvSpPr/>
          <p:nvPr/>
        </p:nvSpPr>
        <p:spPr>
          <a:xfrm>
            <a:off x="1828800" y="3505320"/>
            <a:ext cx="12193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1"/>
          <p:cNvSpPr/>
          <p:nvPr/>
        </p:nvSpPr>
        <p:spPr>
          <a:xfrm flipH="1">
            <a:off x="4343400" y="3962520"/>
            <a:ext cx="12952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2"/>
          <p:cNvSpPr/>
          <p:nvPr/>
        </p:nvSpPr>
        <p:spPr>
          <a:xfrm>
            <a:off x="4038480" y="4648320"/>
            <a:ext cx="106704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33"/>
          <p:cNvSpPr/>
          <p:nvPr/>
        </p:nvSpPr>
        <p:spPr>
          <a:xfrm>
            <a:off x="1143000" y="25146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4"/>
          <p:cNvSpPr/>
          <p:nvPr/>
        </p:nvSpPr>
        <p:spPr>
          <a:xfrm>
            <a:off x="768240" y="1219320"/>
            <a:ext cx="819360" cy="459720"/>
          </a:xfrm>
          <a:prstGeom prst="rect">
            <a:avLst/>
          </a:prstGeom>
          <a:solidFill>
            <a:srgbClr val="ff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p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5"/>
          <p:cNvSpPr/>
          <p:nvPr/>
        </p:nvSpPr>
        <p:spPr>
          <a:xfrm flipV="1">
            <a:off x="129528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39"/>
          <p:cNvSpPr/>
          <p:nvPr/>
        </p:nvSpPr>
        <p:spPr>
          <a:xfrm flipV="1">
            <a:off x="6705720" y="1600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40"/>
          <p:cNvSpPr/>
          <p:nvPr/>
        </p:nvSpPr>
        <p:spPr>
          <a:xfrm flipH="1">
            <a:off x="1676520" y="160020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41"/>
          <p:cNvSpPr/>
          <p:nvPr/>
        </p:nvSpPr>
        <p:spPr>
          <a:xfrm flipH="1">
            <a:off x="1523880" y="160020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Miss-Prediction Detection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MD_OP_FLAGS(op) &amp; F_CTRL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m_num_branches++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pred &amp;&amp; bpred_spec_update == spec_ID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pdate predictor if configured for spec. updat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pred_PC != regs.regs_NPC &amp;&amp; !fetch_redirected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pec_mode = TRUE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recover_inst = TRUE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cover_PC = regs.regs_NPC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ssue(): Dynamic scheduling of non loads/stor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alk the readyq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ry to get resources (FU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latency of execu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ut an entry into the event_q for the completion tim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cannot execute place back into readyq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ventq is serviced by ruu_writeb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Who places instructions in readyq?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 readyq means the instruction is ready to issu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rom dispatch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n-load/store if all sources are availab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s includes the address component of lds/s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ores if data is available. Recall address computation is separate “instruction”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rom writeback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ducer writes last result a consumer waits f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rom lsq_refres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lled every cycle: Load is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dress is know, all preceding store addresses known and there is no conflict with unavailable store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ssue(): main loop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next entry from readyq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still valid (RSLINK_VALID(rs)) try to execut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store complete instantaneously nothing to produ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u = res_get (fu_pool, MD_OP_class (r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p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et functional unit for instruction based on oper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latency of execu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loads access data cache and tlb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ue event in eventq for completion (ruu_writeback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ventq_queue_event(rs, sim_cycle + latency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cannot execute place back in readyq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ssue(): Load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mem port resour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an LSQ for matching preceding sto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this to be executing it must be that if there is a matching store then it has its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s is called store-load forward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no match, access cache_dl1 and dtlb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latency to be the max of the tw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ssue(): High-Level Structur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mporary list node= readyq; readyq = NUL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o long as there are issue slots availab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next element from nod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still vali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y to get resour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termine latenc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hedule eventq ev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lace back in readyq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lace remaining nodes back into readyq (readyq_enqueue() sorted by latency and age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rder in readyq implicit issue priorit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lsq_refresh(): Placing loads into readyq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SQ uses same elements as RUU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heduling is done based on addr field and availability of operand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an forward (LSQ_head, counting to LSQ_num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op if address is unknow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loads after it should wai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data unavailable record address in std_unknow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ads that need this data should wai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nd all register ops are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an std_unknowns for match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lace in readyq if no matc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lsq_refresh(): stor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!STORE_ADDR_READY(&amp;LSQ[index]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lse if (!OPERANDS_READY(&amp;LSQ[index]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d_unknowns[n_std_unknowns++] = LSQ[index].addr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lse /* STORE_ADDR_READY() &amp;&amp; OPERANDS_READY() */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* a later STD known hides an earlier STD unknown */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(j=0; j&lt;n_std_unknowns; j++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std_unknowns[j] == /* STA/STD known */LSQ[index].addr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d_unknowns[j] = /* bogus addr */0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lsq_refresh(): Load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/* load? */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(MD_OP_FLAGS(LSQ[index].op) &amp; (F_MEM|F_LOAD)) == (F_MEM|F_LOAD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amp;&amp; /* queued? */!LSQ[index].queu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amp;&amp; /* waiting? */!LSQ[index].issu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amp;&amp; /* completed? */!LSQ[index].complet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amp;&amp; /* regs ready? */OPERANDS_READY(&amp;LSQ[index]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(j=0; j&lt;n_std_unknowns; j++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std_unknowns[j] == LSQ[index].addr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j == n_std_unknown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/* no STA or STD unknown conflicts, put load on ready queue */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adyq_enqueue(&amp;LSQ[index]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writeback(): Producer notifies consumer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et next event from eventq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this is a recover instruc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quash all that follow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recover, tracer_recover() &amp; bpred_recover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branch update predict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pdate rename table if still the creat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s-&gt;spec_mode determines which on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bsequent consumers can get result from register fi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alk output dependence lis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f link still vali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t idep_ready flag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f consumer becomes ready place on readyq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ruu_issue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Main Simulator Loop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m_main: forever d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commit 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release_fu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rnal bookeeping of which functional units are availab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writeback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sq_refresh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ad/store schedul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ssue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n-load/store instruction schedul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dispatch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fetch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se correspond to the green boxes on the previous sli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very iteration is a single cyc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 sim_cycle variable counts the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covering from Miss-Prediction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cover_inst as set by ruu_dispatch writesb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recover(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rom the end of RUU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ean up output dependence lists freeing RSLin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me for LSQ entry if it exists (1-to-1 correspondence with RUU entries that have rs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a_comp set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ag++ (invalidate all RSLinks to this RUU, could be that we linked to producer that will not be squashed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ear use_spec_cv (create vector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tracer_recover(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ear use_spec_R etc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itmaps indicating where register values a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t when writing to register file in spec_m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eanup speculative memory store stat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set fetch stage by emptying fetch_dat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etch_tail = fetch_head = fetch_num = 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r bpred_recover look into bpred.c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commit(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an starting from the oldest inst in RUU (RUU_head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completed then try to commi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store get memory port and write to memo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ail if can’t get resour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oes not simulate writebuff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ccess data cach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load/store release LSQ ent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branch update predictor if so configur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lease RUU ent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How is sim-outorder structured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777240" y="2021040"/>
            <a:ext cx="7920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133000" y="2021040"/>
            <a:ext cx="76608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503880" y="2021040"/>
            <a:ext cx="95184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5073480" y="2021040"/>
            <a:ext cx="74016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6367320" y="2021040"/>
            <a:ext cx="6714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7574400" y="2021040"/>
            <a:ext cx="11149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3503880" y="2666880"/>
            <a:ext cx="95184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5068800" y="2666880"/>
            <a:ext cx="7920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7583400" y="2666880"/>
            <a:ext cx="7920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742680" y="2971800"/>
            <a:ext cx="10800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1894680" y="2971800"/>
            <a:ext cx="95940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-T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3114360" y="3809880"/>
            <a:ext cx="119736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5713200" y="3657600"/>
            <a:ext cx="119736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7085520" y="3657600"/>
            <a:ext cx="107676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-T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7"/>
          <p:cNvSpPr/>
          <p:nvPr/>
        </p:nvSpPr>
        <p:spPr>
          <a:xfrm>
            <a:off x="5149800" y="4876920"/>
            <a:ext cx="19530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160020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9"/>
          <p:cNvSpPr/>
          <p:nvPr/>
        </p:nvSpPr>
        <p:spPr>
          <a:xfrm>
            <a:off x="297180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0"/>
          <p:cNvSpPr/>
          <p:nvPr/>
        </p:nvSpPr>
        <p:spPr>
          <a:xfrm>
            <a:off x="2971800" y="2286000"/>
            <a:ext cx="45720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44956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2"/>
          <p:cNvSpPr/>
          <p:nvPr/>
        </p:nvSpPr>
        <p:spPr>
          <a:xfrm>
            <a:off x="58672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23"/>
          <p:cNvSpPr/>
          <p:nvPr/>
        </p:nvSpPr>
        <p:spPr>
          <a:xfrm>
            <a:off x="70102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4"/>
          <p:cNvSpPr/>
          <p:nvPr/>
        </p:nvSpPr>
        <p:spPr>
          <a:xfrm>
            <a:off x="4495680" y="2895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5"/>
          <p:cNvSpPr/>
          <p:nvPr/>
        </p:nvSpPr>
        <p:spPr>
          <a:xfrm flipV="1">
            <a:off x="5943600" y="24382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6"/>
          <p:cNvSpPr/>
          <p:nvPr/>
        </p:nvSpPr>
        <p:spPr>
          <a:xfrm>
            <a:off x="5486400" y="3124080"/>
            <a:ext cx="9907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7"/>
          <p:cNvSpPr/>
          <p:nvPr/>
        </p:nvSpPr>
        <p:spPr>
          <a:xfrm flipH="1">
            <a:off x="6629400" y="3048120"/>
            <a:ext cx="12952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28"/>
          <p:cNvSpPr/>
          <p:nvPr/>
        </p:nvSpPr>
        <p:spPr>
          <a:xfrm>
            <a:off x="1828800" y="3505320"/>
            <a:ext cx="12193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9"/>
          <p:cNvSpPr/>
          <p:nvPr/>
        </p:nvSpPr>
        <p:spPr>
          <a:xfrm flipH="1">
            <a:off x="4343400" y="3962520"/>
            <a:ext cx="12952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30"/>
          <p:cNvSpPr/>
          <p:nvPr/>
        </p:nvSpPr>
        <p:spPr>
          <a:xfrm>
            <a:off x="4038480" y="4648320"/>
            <a:ext cx="106704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31"/>
          <p:cNvSpPr/>
          <p:nvPr/>
        </p:nvSpPr>
        <p:spPr>
          <a:xfrm>
            <a:off x="1143000" y="25146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2"/>
          <p:cNvSpPr/>
          <p:nvPr/>
        </p:nvSpPr>
        <p:spPr>
          <a:xfrm>
            <a:off x="811440" y="1219320"/>
            <a:ext cx="875520" cy="459720"/>
          </a:xfrm>
          <a:prstGeom prst="rect">
            <a:avLst/>
          </a:prstGeom>
          <a:solidFill>
            <a:srgbClr val="ff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p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33"/>
          <p:cNvSpPr/>
          <p:nvPr/>
        </p:nvSpPr>
        <p:spPr>
          <a:xfrm flipV="1">
            <a:off x="129528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34"/>
          <p:cNvSpPr/>
          <p:nvPr/>
        </p:nvSpPr>
        <p:spPr>
          <a:xfrm flipV="1">
            <a:off x="6705720" y="1600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35"/>
          <p:cNvSpPr/>
          <p:nvPr/>
        </p:nvSpPr>
        <p:spPr>
          <a:xfrm flipH="1">
            <a:off x="1676520" y="160020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36"/>
          <p:cNvSpPr/>
          <p:nvPr/>
        </p:nvSpPr>
        <p:spPr>
          <a:xfrm flipH="1">
            <a:off x="1523880" y="160020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fetch_data[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3581280" y="2438280"/>
            <a:ext cx="9144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495680" y="2438280"/>
            <a:ext cx="121932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s_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5715000" y="2438280"/>
            <a:ext cx="121932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_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6934320" y="2438280"/>
            <a:ext cx="121896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pred pt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3581280" y="281952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3581280" y="3200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629720" y="2133720"/>
            <a:ext cx="11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tch_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3581280" y="2057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2"/>
          <p:cNvSpPr/>
          <p:nvPr/>
        </p:nvSpPr>
        <p:spPr>
          <a:xfrm>
            <a:off x="2743200" y="2362320"/>
            <a:ext cx="83808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3"/>
          <p:cNvSpPr/>
          <p:nvPr/>
        </p:nvSpPr>
        <p:spPr>
          <a:xfrm>
            <a:off x="3505320" y="10666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fe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4"/>
          <p:cNvSpPr/>
          <p:nvPr/>
        </p:nvSpPr>
        <p:spPr>
          <a:xfrm flipH="1">
            <a:off x="2742840" y="15238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5"/>
          <p:cNvSpPr/>
          <p:nvPr/>
        </p:nvSpPr>
        <p:spPr>
          <a:xfrm rot="19215000">
            <a:off x="2617560" y="13712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ins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6"/>
          <p:cNvSpPr/>
          <p:nvPr/>
        </p:nvSpPr>
        <p:spPr>
          <a:xfrm>
            <a:off x="3581280" y="3581280"/>
            <a:ext cx="45720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1365480" y="388620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tch_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8"/>
          <p:cNvSpPr/>
          <p:nvPr/>
        </p:nvSpPr>
        <p:spPr>
          <a:xfrm flipV="1">
            <a:off x="2743200" y="3504960"/>
            <a:ext cx="8380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9"/>
          <p:cNvSpPr/>
          <p:nvPr/>
        </p:nvSpPr>
        <p:spPr>
          <a:xfrm rot="16200000">
            <a:off x="7548480" y="278676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u_ifq_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20"/>
          <p:cNvSpPr/>
          <p:nvPr/>
        </p:nvSpPr>
        <p:spPr>
          <a:xfrm>
            <a:off x="83059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21"/>
          <p:cNvSpPr/>
          <p:nvPr/>
        </p:nvSpPr>
        <p:spPr>
          <a:xfrm flipV="1">
            <a:off x="8305920" y="2057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22"/>
          <p:cNvSpPr/>
          <p:nvPr/>
        </p:nvSpPr>
        <p:spPr>
          <a:xfrm>
            <a:off x="2029320" y="289548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tch_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23"/>
          <p:cNvSpPr/>
          <p:nvPr/>
        </p:nvSpPr>
        <p:spPr>
          <a:xfrm>
            <a:off x="3352680" y="2438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24"/>
          <p:cNvSpPr/>
          <p:nvPr/>
        </p:nvSpPr>
        <p:spPr>
          <a:xfrm>
            <a:off x="3276720" y="2438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25"/>
          <p:cNvSpPr/>
          <p:nvPr/>
        </p:nvSpPr>
        <p:spPr>
          <a:xfrm>
            <a:off x="32767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26"/>
          <p:cNvSpPr/>
          <p:nvPr/>
        </p:nvSpPr>
        <p:spPr>
          <a:xfrm>
            <a:off x="3505320" y="44956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27"/>
          <p:cNvSpPr/>
          <p:nvPr/>
        </p:nvSpPr>
        <p:spPr>
          <a:xfrm flipH="1" flipV="1">
            <a:off x="2895480" y="42670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28"/>
          <p:cNvSpPr/>
          <p:nvPr/>
        </p:nvSpPr>
        <p:spPr>
          <a:xfrm rot="2569200">
            <a:off x="2552760" y="441936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re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29"/>
          <p:cNvSpPr/>
          <p:nvPr/>
        </p:nvSpPr>
        <p:spPr>
          <a:xfrm>
            <a:off x="4495680" y="5486400"/>
            <a:ext cx="3657600" cy="609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30"/>
          <p:cNvSpPr/>
          <p:nvPr/>
        </p:nvSpPr>
        <p:spPr>
          <a:xfrm flipH="1">
            <a:off x="2742840" y="5791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1"/>
          <p:cNvSpPr/>
          <p:nvPr/>
        </p:nvSpPr>
        <p:spPr>
          <a:xfrm>
            <a:off x="3308040" y="5562720"/>
            <a:ext cx="1945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r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32"/>
          <p:cNvSpPr/>
          <p:nvPr/>
        </p:nvSpPr>
        <p:spPr>
          <a:xfrm flipH="1" flipV="1">
            <a:off x="2209680" y="4343400"/>
            <a:ext cx="533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3"/>
          <p:cNvSpPr/>
          <p:nvPr/>
        </p:nvSpPr>
        <p:spPr>
          <a:xfrm rot="20405400">
            <a:off x="746280" y="47242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Flu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When re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Miss-predic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truct RUU_station RUU[WINDOW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2895480" y="281952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2895480" y="3200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931320" y="213372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U_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2895480" y="2057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2"/>
          <p:cNvSpPr/>
          <p:nvPr/>
        </p:nvSpPr>
        <p:spPr>
          <a:xfrm>
            <a:off x="2057400" y="2362320"/>
            <a:ext cx="83808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2895480" y="3581280"/>
            <a:ext cx="45720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66720" y="388620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U_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5"/>
          <p:cNvSpPr/>
          <p:nvPr/>
        </p:nvSpPr>
        <p:spPr>
          <a:xfrm flipV="1">
            <a:off x="2057400" y="3504960"/>
            <a:ext cx="8380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6"/>
          <p:cNvSpPr/>
          <p:nvPr/>
        </p:nvSpPr>
        <p:spPr>
          <a:xfrm rot="16200000">
            <a:off x="6970320" y="275148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U_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7"/>
          <p:cNvSpPr/>
          <p:nvPr/>
        </p:nvSpPr>
        <p:spPr>
          <a:xfrm>
            <a:off x="76201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18"/>
          <p:cNvSpPr/>
          <p:nvPr/>
        </p:nvSpPr>
        <p:spPr>
          <a:xfrm flipV="1">
            <a:off x="7620120" y="2057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1330560" y="2895480"/>
            <a:ext cx="13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U_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20"/>
          <p:cNvSpPr/>
          <p:nvPr/>
        </p:nvSpPr>
        <p:spPr>
          <a:xfrm>
            <a:off x="2666880" y="2438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2590920" y="2438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22"/>
          <p:cNvSpPr/>
          <p:nvPr/>
        </p:nvSpPr>
        <p:spPr>
          <a:xfrm>
            <a:off x="25909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23"/>
          <p:cNvSpPr/>
          <p:nvPr/>
        </p:nvSpPr>
        <p:spPr>
          <a:xfrm>
            <a:off x="2895480" y="2438280"/>
            <a:ext cx="45720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24"/>
          <p:cNvSpPr/>
          <p:nvPr/>
        </p:nvSpPr>
        <p:spPr>
          <a:xfrm>
            <a:off x="3505320" y="10666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25"/>
          <p:cNvSpPr/>
          <p:nvPr/>
        </p:nvSpPr>
        <p:spPr>
          <a:xfrm flipH="1">
            <a:off x="2742840" y="15238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26"/>
          <p:cNvSpPr/>
          <p:nvPr/>
        </p:nvSpPr>
        <p:spPr>
          <a:xfrm rot="19215000">
            <a:off x="2617560" y="13712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ins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29"/>
          <p:cNvSpPr/>
          <p:nvPr/>
        </p:nvSpPr>
        <p:spPr>
          <a:xfrm>
            <a:off x="3276720" y="42670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comm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30"/>
          <p:cNvSpPr/>
          <p:nvPr/>
        </p:nvSpPr>
        <p:spPr>
          <a:xfrm flipH="1" flipV="1">
            <a:off x="2666880" y="40384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31"/>
          <p:cNvSpPr/>
          <p:nvPr/>
        </p:nvSpPr>
        <p:spPr>
          <a:xfrm rot="2569200">
            <a:off x="2324160" y="419076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re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32"/>
          <p:cNvSpPr/>
          <p:nvPr/>
        </p:nvSpPr>
        <p:spPr>
          <a:xfrm>
            <a:off x="4495680" y="5486400"/>
            <a:ext cx="3657600" cy="609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33"/>
          <p:cNvSpPr/>
          <p:nvPr/>
        </p:nvSpPr>
        <p:spPr>
          <a:xfrm flipH="1">
            <a:off x="2742840" y="5791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4"/>
          <p:cNvSpPr/>
          <p:nvPr/>
        </p:nvSpPr>
        <p:spPr>
          <a:xfrm>
            <a:off x="3283560" y="5562720"/>
            <a:ext cx="1656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35"/>
          <p:cNvSpPr/>
          <p:nvPr/>
        </p:nvSpPr>
        <p:spPr>
          <a:xfrm flipH="1" flipV="1">
            <a:off x="2209680" y="4343400"/>
            <a:ext cx="533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6"/>
          <p:cNvSpPr/>
          <p:nvPr/>
        </p:nvSpPr>
        <p:spPr>
          <a:xfrm rot="20405400">
            <a:off x="746280" y="47242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Flu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When re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Miss-predic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51"/>
          <p:cNvSpPr/>
          <p:nvPr/>
        </p:nvSpPr>
        <p:spPr>
          <a:xfrm>
            <a:off x="3352680" y="1066680"/>
            <a:ext cx="2057400" cy="46483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5562720" y="3733920"/>
            <a:ext cx="190476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truct RUU_station Scheduling Related Entri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3505320" y="160020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p_ready[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3505320" y="19810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p_ready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426840" y="1143000"/>
            <a:ext cx="191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Input ready 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505320" y="31240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ames[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3505320" y="23623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p_ready[2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3505320" y="35053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ep_list[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"/>
          <p:cNvSpPr/>
          <p:nvPr/>
        </p:nvSpPr>
        <p:spPr>
          <a:xfrm>
            <a:off x="5257800" y="3733920"/>
            <a:ext cx="380880" cy="7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5638680" y="3809880"/>
            <a:ext cx="175284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12"/>
          <p:cNvSpPr/>
          <p:nvPr/>
        </p:nvSpPr>
        <p:spPr>
          <a:xfrm>
            <a:off x="5638680" y="4191120"/>
            <a:ext cx="17528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amp;RUU[cosumer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3"/>
          <p:cNvSpPr/>
          <p:nvPr/>
        </p:nvSpPr>
        <p:spPr>
          <a:xfrm>
            <a:off x="5638680" y="4572000"/>
            <a:ext cx="17528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4"/>
          <p:cNvSpPr/>
          <p:nvPr/>
        </p:nvSpPr>
        <p:spPr>
          <a:xfrm>
            <a:off x="5638680" y="4952880"/>
            <a:ext cx="175284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.op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5350680" y="335268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consumer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7"/>
          <p:cNvSpPr/>
          <p:nvPr/>
        </p:nvSpPr>
        <p:spPr>
          <a:xfrm>
            <a:off x="7848720" y="4038480"/>
            <a:ext cx="3204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8"/>
          <p:cNvSpPr/>
          <p:nvPr/>
        </p:nvSpPr>
        <p:spPr>
          <a:xfrm>
            <a:off x="3505320" y="40384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ames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19"/>
          <p:cNvSpPr/>
          <p:nvPr/>
        </p:nvSpPr>
        <p:spPr>
          <a:xfrm>
            <a:off x="3505320" y="44197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ep_list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20"/>
          <p:cNvSpPr/>
          <p:nvPr/>
        </p:nvSpPr>
        <p:spPr>
          <a:xfrm>
            <a:off x="3505320" y="51814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5530320" y="1219320"/>
            <a:ext cx="148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must be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be r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3446640" y="2743200"/>
            <a:ext cx="189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Output Reg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3"/>
          <p:cNvSpPr/>
          <p:nvPr/>
        </p:nvSpPr>
        <p:spPr>
          <a:xfrm>
            <a:off x="3529440" y="4800600"/>
            <a:ext cx="12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Unique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24"/>
          <p:cNvSpPr/>
          <p:nvPr/>
        </p:nvSpPr>
        <p:spPr>
          <a:xfrm>
            <a:off x="457200" y="1143000"/>
            <a:ext cx="2362320" cy="24382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25"/>
          <p:cNvSpPr/>
          <p:nvPr/>
        </p:nvSpPr>
        <p:spPr>
          <a:xfrm>
            <a:off x="1447920" y="1905120"/>
            <a:ext cx="1981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26"/>
          <p:cNvSpPr/>
          <p:nvPr/>
        </p:nvSpPr>
        <p:spPr>
          <a:xfrm rot="622200">
            <a:off x="2925000" y="182844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28"/>
          <p:cNvSpPr/>
          <p:nvPr/>
        </p:nvSpPr>
        <p:spPr>
          <a:xfrm>
            <a:off x="6019920" y="2209680"/>
            <a:ext cx="236196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29"/>
          <p:cNvSpPr/>
          <p:nvPr/>
        </p:nvSpPr>
        <p:spPr>
          <a:xfrm rot="2218800">
            <a:off x="6766560" y="320004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Walk and 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30"/>
          <p:cNvSpPr/>
          <p:nvPr/>
        </p:nvSpPr>
        <p:spPr>
          <a:xfrm>
            <a:off x="6400800" y="281952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31"/>
          <p:cNvSpPr/>
          <p:nvPr/>
        </p:nvSpPr>
        <p:spPr>
          <a:xfrm flipH="1" flipV="1">
            <a:off x="5105520" y="220932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2"/>
          <p:cNvSpPr/>
          <p:nvPr/>
        </p:nvSpPr>
        <p:spPr>
          <a:xfrm rot="1338000">
            <a:off x="5439240" y="198072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33"/>
          <p:cNvSpPr/>
          <p:nvPr/>
        </p:nvSpPr>
        <p:spPr>
          <a:xfrm>
            <a:off x="380880" y="5410080"/>
            <a:ext cx="236232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4"/>
          <p:cNvSpPr/>
          <p:nvPr/>
        </p:nvSpPr>
        <p:spPr>
          <a:xfrm>
            <a:off x="921240" y="5105520"/>
            <a:ext cx="1656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35"/>
          <p:cNvSpPr/>
          <p:nvPr/>
        </p:nvSpPr>
        <p:spPr>
          <a:xfrm>
            <a:off x="2666880" y="5257800"/>
            <a:ext cx="838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6"/>
          <p:cNvSpPr/>
          <p:nvPr/>
        </p:nvSpPr>
        <p:spPr>
          <a:xfrm rot="1396800">
            <a:off x="2170800" y="48002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invali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7"/>
          <p:cNvSpPr/>
          <p:nvPr/>
        </p:nvSpPr>
        <p:spPr>
          <a:xfrm rot="640200">
            <a:off x="973440" y="1828440"/>
            <a:ext cx="18936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link_id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39"/>
          <p:cNvSpPr/>
          <p:nvPr/>
        </p:nvSpPr>
        <p:spPr>
          <a:xfrm>
            <a:off x="1523880" y="327672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40"/>
          <p:cNvSpPr/>
          <p:nvPr/>
        </p:nvSpPr>
        <p:spPr>
          <a:xfrm rot="622200">
            <a:off x="3001320" y="320004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8"/>
          <p:cNvSpPr/>
          <p:nvPr/>
        </p:nvSpPr>
        <p:spPr>
          <a:xfrm rot="640200">
            <a:off x="710640" y="2971800"/>
            <a:ext cx="2233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install_od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41"/>
          <p:cNvSpPr/>
          <p:nvPr/>
        </p:nvSpPr>
        <p:spPr>
          <a:xfrm>
            <a:off x="2133720" y="3581280"/>
            <a:ext cx="13716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42"/>
          <p:cNvSpPr/>
          <p:nvPr/>
        </p:nvSpPr>
        <p:spPr>
          <a:xfrm rot="2961600">
            <a:off x="2633040" y="394848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3"/>
          <p:cNvSpPr/>
          <p:nvPr/>
        </p:nvSpPr>
        <p:spPr>
          <a:xfrm>
            <a:off x="5615640" y="5381640"/>
            <a:ext cx="164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 RS_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44"/>
          <p:cNvSpPr/>
          <p:nvPr/>
        </p:nvSpPr>
        <p:spPr>
          <a:xfrm>
            <a:off x="7848720" y="4038480"/>
            <a:ext cx="1143000" cy="1676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45"/>
          <p:cNvSpPr/>
          <p:nvPr/>
        </p:nvSpPr>
        <p:spPr>
          <a:xfrm>
            <a:off x="7924680" y="4114800"/>
            <a:ext cx="10512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46"/>
          <p:cNvSpPr/>
          <p:nvPr/>
        </p:nvSpPr>
        <p:spPr>
          <a:xfrm>
            <a:off x="7924680" y="4495680"/>
            <a:ext cx="105120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47"/>
          <p:cNvSpPr/>
          <p:nvPr/>
        </p:nvSpPr>
        <p:spPr>
          <a:xfrm>
            <a:off x="7924680" y="4876920"/>
            <a:ext cx="10512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48"/>
          <p:cNvSpPr/>
          <p:nvPr/>
        </p:nvSpPr>
        <p:spPr>
          <a:xfrm>
            <a:off x="7924680" y="5257800"/>
            <a:ext cx="10512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49"/>
          <p:cNvSpPr/>
          <p:nvPr/>
        </p:nvSpPr>
        <p:spPr>
          <a:xfrm>
            <a:off x="7391520" y="4114800"/>
            <a:ext cx="53316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reeform 50"/>
          <p:cNvSpPr/>
          <p:nvPr/>
        </p:nvSpPr>
        <p:spPr>
          <a:xfrm>
            <a:off x="8458200" y="3733920"/>
            <a:ext cx="685800" cy="2133360"/>
          </a:xfrm>
          <a:custGeom>
            <a:avLst/>
            <a:gdLst/>
            <a:ahLst/>
            <a:rect l="l" t="t" r="r" b="b"/>
            <a:pathLst>
              <a:path w="432" h="1344">
                <a:moveTo>
                  <a:pt x="288" y="0"/>
                </a:moveTo>
                <a:lnTo>
                  <a:pt x="0" y="576"/>
                </a:lnTo>
                <a:lnTo>
                  <a:pt x="192" y="864"/>
                </a:lnTo>
                <a:lnTo>
                  <a:pt x="0" y="1344"/>
                </a:lnTo>
                <a:lnTo>
                  <a:pt x="432" y="1344"/>
                </a:lnTo>
                <a:lnTo>
                  <a:pt x="384" y="48"/>
                </a:lnTo>
                <a:lnTo>
                  <a:pt x="2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52"/>
          <p:cNvSpPr/>
          <p:nvPr/>
        </p:nvSpPr>
        <p:spPr>
          <a:xfrm flipV="1">
            <a:off x="5105520" y="472392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LSQ: Load/Store Scheduler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ame as RUU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2895480" y="281952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2895480" y="3200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937080" y="213372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Q_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2895480" y="2057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8"/>
          <p:cNvSpPr/>
          <p:nvPr/>
        </p:nvSpPr>
        <p:spPr>
          <a:xfrm>
            <a:off x="2057400" y="2362320"/>
            <a:ext cx="83808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9"/>
          <p:cNvSpPr/>
          <p:nvPr/>
        </p:nvSpPr>
        <p:spPr>
          <a:xfrm>
            <a:off x="2895480" y="3581280"/>
            <a:ext cx="45720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672840" y="388620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Q_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1"/>
          <p:cNvSpPr/>
          <p:nvPr/>
        </p:nvSpPr>
        <p:spPr>
          <a:xfrm flipV="1">
            <a:off x="2057400" y="3504960"/>
            <a:ext cx="8380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2"/>
          <p:cNvSpPr/>
          <p:nvPr/>
        </p:nvSpPr>
        <p:spPr>
          <a:xfrm rot="16200000">
            <a:off x="6998400" y="277236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Q_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3"/>
          <p:cNvSpPr/>
          <p:nvPr/>
        </p:nvSpPr>
        <p:spPr>
          <a:xfrm>
            <a:off x="76201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4"/>
          <p:cNvSpPr/>
          <p:nvPr/>
        </p:nvSpPr>
        <p:spPr>
          <a:xfrm flipV="1">
            <a:off x="7620120" y="2057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1336680" y="28954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Q_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6"/>
          <p:cNvSpPr/>
          <p:nvPr/>
        </p:nvSpPr>
        <p:spPr>
          <a:xfrm>
            <a:off x="2666880" y="2438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7"/>
          <p:cNvSpPr/>
          <p:nvPr/>
        </p:nvSpPr>
        <p:spPr>
          <a:xfrm>
            <a:off x="2590920" y="2438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8"/>
          <p:cNvSpPr/>
          <p:nvPr/>
        </p:nvSpPr>
        <p:spPr>
          <a:xfrm>
            <a:off x="25909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9"/>
          <p:cNvSpPr/>
          <p:nvPr/>
        </p:nvSpPr>
        <p:spPr>
          <a:xfrm>
            <a:off x="2895480" y="2438280"/>
            <a:ext cx="45720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0"/>
          <p:cNvSpPr/>
          <p:nvPr/>
        </p:nvSpPr>
        <p:spPr>
          <a:xfrm>
            <a:off x="3505320" y="10666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21"/>
          <p:cNvSpPr/>
          <p:nvPr/>
        </p:nvSpPr>
        <p:spPr>
          <a:xfrm flipH="1">
            <a:off x="2742840" y="15238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22"/>
          <p:cNvSpPr/>
          <p:nvPr/>
        </p:nvSpPr>
        <p:spPr>
          <a:xfrm rot="19215000">
            <a:off x="2617560" y="13712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ins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3"/>
          <p:cNvSpPr/>
          <p:nvPr/>
        </p:nvSpPr>
        <p:spPr>
          <a:xfrm>
            <a:off x="3276720" y="42670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comm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24"/>
          <p:cNvSpPr/>
          <p:nvPr/>
        </p:nvSpPr>
        <p:spPr>
          <a:xfrm flipH="1" flipV="1">
            <a:off x="2666880" y="40384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25"/>
          <p:cNvSpPr/>
          <p:nvPr/>
        </p:nvSpPr>
        <p:spPr>
          <a:xfrm rot="2569200">
            <a:off x="2324160" y="419076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re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26"/>
          <p:cNvSpPr/>
          <p:nvPr/>
        </p:nvSpPr>
        <p:spPr>
          <a:xfrm>
            <a:off x="4495680" y="5486400"/>
            <a:ext cx="3657600" cy="609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27"/>
          <p:cNvSpPr/>
          <p:nvPr/>
        </p:nvSpPr>
        <p:spPr>
          <a:xfrm flipH="1">
            <a:off x="2742840" y="5791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28"/>
          <p:cNvSpPr/>
          <p:nvPr/>
        </p:nvSpPr>
        <p:spPr>
          <a:xfrm>
            <a:off x="3283560" y="5562720"/>
            <a:ext cx="1656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29"/>
          <p:cNvSpPr/>
          <p:nvPr/>
        </p:nvSpPr>
        <p:spPr>
          <a:xfrm flipH="1" flipV="1">
            <a:off x="2209680" y="4343400"/>
            <a:ext cx="533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0"/>
          <p:cNvSpPr/>
          <p:nvPr/>
        </p:nvSpPr>
        <p:spPr>
          <a:xfrm rot="20405400">
            <a:off x="746280" y="47242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Flu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When re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Miss-predic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57"/>
          <p:cNvSpPr/>
          <p:nvPr/>
        </p:nvSpPr>
        <p:spPr>
          <a:xfrm>
            <a:off x="3276720" y="1447920"/>
            <a:ext cx="1904760" cy="19810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gister Renaming Structur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352680" y="1523880"/>
            <a:ext cx="175284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3849840" y="106668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1653120" y="144792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_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3352680" y="1905120"/>
            <a:ext cx="17528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5105520" y="15238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9"/>
          <p:cNvSpPr/>
          <p:nvPr/>
        </p:nvSpPr>
        <p:spPr>
          <a:xfrm>
            <a:off x="5105520" y="19051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5602320" y="106668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1"/>
          <p:cNvSpPr/>
          <p:nvPr/>
        </p:nvSpPr>
        <p:spPr>
          <a:xfrm>
            <a:off x="6858000" y="15238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2"/>
          <p:cNvSpPr/>
          <p:nvPr/>
        </p:nvSpPr>
        <p:spPr>
          <a:xfrm>
            <a:off x="6858000" y="19051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7346880" y="10666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Freeform 14"/>
          <p:cNvSpPr/>
          <p:nvPr/>
        </p:nvSpPr>
        <p:spPr>
          <a:xfrm>
            <a:off x="6172200" y="1295280"/>
            <a:ext cx="838080" cy="1143000"/>
          </a:xfrm>
          <a:custGeom>
            <a:avLst/>
            <a:gdLst/>
            <a:ahLst/>
            <a:rect l="l" t="t" r="r" b="b"/>
            <a:pathLst>
              <a:path w="528" h="720">
                <a:moveTo>
                  <a:pt x="336" y="0"/>
                </a:moveTo>
                <a:lnTo>
                  <a:pt x="144" y="288"/>
                </a:lnTo>
                <a:lnTo>
                  <a:pt x="288" y="336"/>
                </a:lnTo>
                <a:lnTo>
                  <a:pt x="0" y="720"/>
                </a:lnTo>
                <a:lnTo>
                  <a:pt x="240" y="720"/>
                </a:lnTo>
                <a:lnTo>
                  <a:pt x="480" y="288"/>
                </a:lnTo>
                <a:lnTo>
                  <a:pt x="336" y="240"/>
                </a:lnTo>
                <a:lnTo>
                  <a:pt x="528" y="0"/>
                </a:lnTo>
                <a:lnTo>
                  <a:pt x="33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5"/>
          <p:cNvSpPr/>
          <p:nvPr/>
        </p:nvSpPr>
        <p:spPr>
          <a:xfrm>
            <a:off x="6019920" y="236232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6"/>
          <p:cNvSpPr/>
          <p:nvPr/>
        </p:nvSpPr>
        <p:spPr>
          <a:xfrm>
            <a:off x="6553080" y="1066680"/>
            <a:ext cx="6098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29"/>
          <p:cNvSpPr/>
          <p:nvPr/>
        </p:nvSpPr>
        <p:spPr>
          <a:xfrm>
            <a:off x="3352680" y="2590920"/>
            <a:ext cx="17528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31"/>
          <p:cNvSpPr/>
          <p:nvPr/>
        </p:nvSpPr>
        <p:spPr>
          <a:xfrm>
            <a:off x="911520" y="2286000"/>
            <a:ext cx="224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_create_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2"/>
          <p:cNvSpPr/>
          <p:nvPr/>
        </p:nvSpPr>
        <p:spPr>
          <a:xfrm>
            <a:off x="3352680" y="2971800"/>
            <a:ext cx="17528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3"/>
          <p:cNvSpPr/>
          <p:nvPr/>
        </p:nvSpPr>
        <p:spPr>
          <a:xfrm>
            <a:off x="5105520" y="25909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34"/>
          <p:cNvSpPr/>
          <p:nvPr/>
        </p:nvSpPr>
        <p:spPr>
          <a:xfrm>
            <a:off x="5105520" y="297180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36"/>
          <p:cNvSpPr/>
          <p:nvPr/>
        </p:nvSpPr>
        <p:spPr>
          <a:xfrm>
            <a:off x="6858000" y="25909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37"/>
          <p:cNvSpPr/>
          <p:nvPr/>
        </p:nvSpPr>
        <p:spPr>
          <a:xfrm>
            <a:off x="6858000" y="297180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Freeform 39"/>
          <p:cNvSpPr/>
          <p:nvPr/>
        </p:nvSpPr>
        <p:spPr>
          <a:xfrm>
            <a:off x="6172200" y="2438280"/>
            <a:ext cx="838080" cy="1067040"/>
          </a:xfrm>
          <a:custGeom>
            <a:avLst/>
            <a:gdLst/>
            <a:ahLst/>
            <a:rect l="l" t="t" r="r" b="b"/>
            <a:pathLst>
              <a:path w="528" h="720">
                <a:moveTo>
                  <a:pt x="336" y="0"/>
                </a:moveTo>
                <a:lnTo>
                  <a:pt x="144" y="288"/>
                </a:lnTo>
                <a:lnTo>
                  <a:pt x="288" y="336"/>
                </a:lnTo>
                <a:lnTo>
                  <a:pt x="0" y="720"/>
                </a:lnTo>
                <a:lnTo>
                  <a:pt x="240" y="720"/>
                </a:lnTo>
                <a:lnTo>
                  <a:pt x="480" y="288"/>
                </a:lnTo>
                <a:lnTo>
                  <a:pt x="336" y="240"/>
                </a:lnTo>
                <a:lnTo>
                  <a:pt x="528" y="0"/>
                </a:lnTo>
                <a:lnTo>
                  <a:pt x="33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40"/>
          <p:cNvSpPr/>
          <p:nvPr/>
        </p:nvSpPr>
        <p:spPr>
          <a:xfrm>
            <a:off x="6095880" y="342900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41"/>
          <p:cNvSpPr/>
          <p:nvPr/>
        </p:nvSpPr>
        <p:spPr>
          <a:xfrm>
            <a:off x="6477120" y="2438280"/>
            <a:ext cx="6094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43"/>
          <p:cNvSpPr/>
          <p:nvPr/>
        </p:nvSpPr>
        <p:spPr>
          <a:xfrm>
            <a:off x="1612440" y="358128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_spec_c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47"/>
          <p:cNvSpPr/>
          <p:nvPr/>
        </p:nvSpPr>
        <p:spPr>
          <a:xfrm>
            <a:off x="825840" y="3048120"/>
            <a:ext cx="14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Wh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Vector to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48"/>
          <p:cNvSpPr/>
          <p:nvPr/>
        </p:nvSpPr>
        <p:spPr>
          <a:xfrm>
            <a:off x="699840" y="106668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Link to RUU and output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49"/>
          <p:cNvSpPr/>
          <p:nvPr/>
        </p:nvSpPr>
        <p:spPr>
          <a:xfrm>
            <a:off x="3124080" y="1371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0"/>
          <p:cNvSpPr/>
          <p:nvPr/>
        </p:nvSpPr>
        <p:spPr>
          <a:xfrm>
            <a:off x="6095880" y="4876920"/>
            <a:ext cx="2590920" cy="761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54"/>
          <p:cNvSpPr/>
          <p:nvPr/>
        </p:nvSpPr>
        <p:spPr>
          <a:xfrm flipH="1" flipV="1">
            <a:off x="4114800" y="3429000"/>
            <a:ext cx="19051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55"/>
          <p:cNvSpPr/>
          <p:nvPr/>
        </p:nvSpPr>
        <p:spPr>
          <a:xfrm rot="2122800">
            <a:off x="5515560" y="419076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56"/>
          <p:cNvSpPr/>
          <p:nvPr/>
        </p:nvSpPr>
        <p:spPr>
          <a:xfrm>
            <a:off x="6120720" y="4648320"/>
            <a:ext cx="2233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install_od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58"/>
          <p:cNvSpPr/>
          <p:nvPr/>
        </p:nvSpPr>
        <p:spPr>
          <a:xfrm flipH="1" flipV="1">
            <a:off x="3657600" y="3962160"/>
            <a:ext cx="23623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59"/>
          <p:cNvSpPr/>
          <p:nvPr/>
        </p:nvSpPr>
        <p:spPr>
          <a:xfrm rot="1329000">
            <a:off x="3972960" y="4038120"/>
            <a:ext cx="159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 w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in spec_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61"/>
          <p:cNvSpPr/>
          <p:nvPr/>
        </p:nvSpPr>
        <p:spPr>
          <a:xfrm>
            <a:off x="457200" y="4952880"/>
            <a:ext cx="2590920" cy="762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63"/>
          <p:cNvSpPr/>
          <p:nvPr/>
        </p:nvSpPr>
        <p:spPr>
          <a:xfrm flipV="1">
            <a:off x="2666880" y="3428640"/>
            <a:ext cx="914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64"/>
          <p:cNvSpPr/>
          <p:nvPr/>
        </p:nvSpPr>
        <p:spPr>
          <a:xfrm rot="18046800">
            <a:off x="2152080" y="4200480"/>
            <a:ext cx="81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to 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66"/>
          <p:cNvSpPr/>
          <p:nvPr/>
        </p:nvSpPr>
        <p:spPr>
          <a:xfrm>
            <a:off x="2978640" y="5029200"/>
            <a:ext cx="1656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67"/>
          <p:cNvSpPr/>
          <p:nvPr/>
        </p:nvSpPr>
        <p:spPr>
          <a:xfrm flipV="1">
            <a:off x="3352680" y="4038480"/>
            <a:ext cx="3049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68"/>
          <p:cNvSpPr/>
          <p:nvPr/>
        </p:nvSpPr>
        <p:spPr>
          <a:xfrm rot="17191200">
            <a:off x="2993040" y="436572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re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69"/>
          <p:cNvSpPr/>
          <p:nvPr/>
        </p:nvSpPr>
        <p:spPr>
          <a:xfrm>
            <a:off x="3352680" y="3505320"/>
            <a:ext cx="5257800" cy="533160"/>
          </a:xfrm>
          <a:prstGeom prst="rect">
            <a:avLst/>
          </a:prstGeom>
          <a:solidFill>
            <a:srgbClr val="ffcc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3505320" y="3581280"/>
            <a:ext cx="3808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44"/>
          <p:cNvSpPr/>
          <p:nvPr/>
        </p:nvSpPr>
        <p:spPr>
          <a:xfrm>
            <a:off x="5257800" y="3581280"/>
            <a:ext cx="3808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45"/>
          <p:cNvSpPr/>
          <p:nvPr/>
        </p:nvSpPr>
        <p:spPr>
          <a:xfrm>
            <a:off x="7010280" y="3581280"/>
            <a:ext cx="38124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46"/>
          <p:cNvSpPr/>
          <p:nvPr/>
        </p:nvSpPr>
        <p:spPr>
          <a:xfrm>
            <a:off x="5715000" y="38098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gister State e.g., reg_R[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3352680" y="1371600"/>
            <a:ext cx="17528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3849840" y="91440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1959840" y="129528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s.reg_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9"/>
          <p:cNvSpPr/>
          <p:nvPr/>
        </p:nvSpPr>
        <p:spPr>
          <a:xfrm>
            <a:off x="5105520" y="137160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1"/>
          <p:cNvSpPr/>
          <p:nvPr/>
        </p:nvSpPr>
        <p:spPr>
          <a:xfrm>
            <a:off x="5602320" y="91440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2"/>
          <p:cNvSpPr/>
          <p:nvPr/>
        </p:nvSpPr>
        <p:spPr>
          <a:xfrm>
            <a:off x="6858000" y="137160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4"/>
          <p:cNvSpPr/>
          <p:nvPr/>
        </p:nvSpPr>
        <p:spPr>
          <a:xfrm>
            <a:off x="7346880" y="91440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Freeform 15"/>
          <p:cNvSpPr/>
          <p:nvPr/>
        </p:nvSpPr>
        <p:spPr>
          <a:xfrm>
            <a:off x="6172200" y="1143000"/>
            <a:ext cx="838080" cy="762120"/>
          </a:xfrm>
          <a:custGeom>
            <a:avLst/>
            <a:gdLst/>
            <a:ahLst/>
            <a:rect l="l" t="t" r="r" b="b"/>
            <a:pathLst>
              <a:path w="528" h="720">
                <a:moveTo>
                  <a:pt x="336" y="0"/>
                </a:moveTo>
                <a:lnTo>
                  <a:pt x="144" y="288"/>
                </a:lnTo>
                <a:lnTo>
                  <a:pt x="288" y="336"/>
                </a:lnTo>
                <a:lnTo>
                  <a:pt x="0" y="720"/>
                </a:lnTo>
                <a:lnTo>
                  <a:pt x="240" y="720"/>
                </a:lnTo>
                <a:lnTo>
                  <a:pt x="480" y="288"/>
                </a:lnTo>
                <a:lnTo>
                  <a:pt x="336" y="240"/>
                </a:lnTo>
                <a:lnTo>
                  <a:pt x="528" y="0"/>
                </a:lnTo>
                <a:lnTo>
                  <a:pt x="33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7"/>
          <p:cNvSpPr/>
          <p:nvPr/>
        </p:nvSpPr>
        <p:spPr>
          <a:xfrm>
            <a:off x="6553080" y="91440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26"/>
          <p:cNvSpPr/>
          <p:nvPr/>
        </p:nvSpPr>
        <p:spPr>
          <a:xfrm>
            <a:off x="6119640" y="251460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28"/>
          <p:cNvSpPr/>
          <p:nvPr/>
        </p:nvSpPr>
        <p:spPr>
          <a:xfrm>
            <a:off x="1713960" y="266688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_spec_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9"/>
          <p:cNvSpPr/>
          <p:nvPr/>
        </p:nvSpPr>
        <p:spPr>
          <a:xfrm>
            <a:off x="679680" y="2666880"/>
            <a:ext cx="11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Wh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Reg to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32"/>
          <p:cNvSpPr/>
          <p:nvPr/>
        </p:nvSpPr>
        <p:spPr>
          <a:xfrm>
            <a:off x="6095880" y="4876920"/>
            <a:ext cx="2590920" cy="761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33"/>
          <p:cNvSpPr/>
          <p:nvPr/>
        </p:nvSpPr>
        <p:spPr>
          <a:xfrm flipH="1" flipV="1">
            <a:off x="4495320" y="2361960"/>
            <a:ext cx="16002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37"/>
          <p:cNvSpPr/>
          <p:nvPr/>
        </p:nvSpPr>
        <p:spPr>
          <a:xfrm rot="1500600">
            <a:off x="3896640" y="3429000"/>
            <a:ext cx="159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 w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in spec_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38"/>
          <p:cNvSpPr/>
          <p:nvPr/>
        </p:nvSpPr>
        <p:spPr>
          <a:xfrm>
            <a:off x="457200" y="4952880"/>
            <a:ext cx="2590920" cy="762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41"/>
          <p:cNvSpPr/>
          <p:nvPr/>
        </p:nvSpPr>
        <p:spPr>
          <a:xfrm>
            <a:off x="1174320" y="4648320"/>
            <a:ext cx="1945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r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42"/>
          <p:cNvSpPr/>
          <p:nvPr/>
        </p:nvSpPr>
        <p:spPr>
          <a:xfrm flipV="1">
            <a:off x="2819520" y="3047760"/>
            <a:ext cx="9144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43"/>
          <p:cNvSpPr/>
          <p:nvPr/>
        </p:nvSpPr>
        <p:spPr>
          <a:xfrm rot="17911800">
            <a:off x="2688120" y="375624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re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44"/>
          <p:cNvSpPr/>
          <p:nvPr/>
        </p:nvSpPr>
        <p:spPr>
          <a:xfrm>
            <a:off x="3376440" y="2590920"/>
            <a:ext cx="5257800" cy="533160"/>
          </a:xfrm>
          <a:prstGeom prst="rect">
            <a:avLst/>
          </a:prstGeom>
          <a:solidFill>
            <a:srgbClr val="ffcc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45"/>
          <p:cNvSpPr/>
          <p:nvPr/>
        </p:nvSpPr>
        <p:spPr>
          <a:xfrm>
            <a:off x="3529080" y="2666880"/>
            <a:ext cx="3808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46"/>
          <p:cNvSpPr/>
          <p:nvPr/>
        </p:nvSpPr>
        <p:spPr>
          <a:xfrm>
            <a:off x="5281560" y="2666880"/>
            <a:ext cx="3808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47"/>
          <p:cNvSpPr/>
          <p:nvPr/>
        </p:nvSpPr>
        <p:spPr>
          <a:xfrm>
            <a:off x="7034040" y="2666880"/>
            <a:ext cx="38124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48"/>
          <p:cNvSpPr/>
          <p:nvPr/>
        </p:nvSpPr>
        <p:spPr>
          <a:xfrm>
            <a:off x="5738760" y="28954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49"/>
          <p:cNvSpPr/>
          <p:nvPr/>
        </p:nvSpPr>
        <p:spPr>
          <a:xfrm>
            <a:off x="6019920" y="18288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50"/>
          <p:cNvSpPr/>
          <p:nvPr/>
        </p:nvSpPr>
        <p:spPr>
          <a:xfrm>
            <a:off x="3352680" y="1981080"/>
            <a:ext cx="175284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52"/>
          <p:cNvSpPr/>
          <p:nvPr/>
        </p:nvSpPr>
        <p:spPr>
          <a:xfrm>
            <a:off x="1844640" y="190512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_reg_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53"/>
          <p:cNvSpPr/>
          <p:nvPr/>
        </p:nvSpPr>
        <p:spPr>
          <a:xfrm>
            <a:off x="5105520" y="19810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55"/>
          <p:cNvSpPr/>
          <p:nvPr/>
        </p:nvSpPr>
        <p:spPr>
          <a:xfrm>
            <a:off x="6858000" y="19810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Freeform 57"/>
          <p:cNvSpPr/>
          <p:nvPr/>
        </p:nvSpPr>
        <p:spPr>
          <a:xfrm>
            <a:off x="6248520" y="1905120"/>
            <a:ext cx="838080" cy="609480"/>
          </a:xfrm>
          <a:custGeom>
            <a:avLst/>
            <a:gdLst/>
            <a:ahLst/>
            <a:rect l="l" t="t" r="r" b="b"/>
            <a:pathLst>
              <a:path w="528" h="720">
                <a:moveTo>
                  <a:pt x="336" y="0"/>
                </a:moveTo>
                <a:lnTo>
                  <a:pt x="144" y="288"/>
                </a:lnTo>
                <a:lnTo>
                  <a:pt x="288" y="336"/>
                </a:lnTo>
                <a:lnTo>
                  <a:pt x="0" y="720"/>
                </a:lnTo>
                <a:lnTo>
                  <a:pt x="240" y="720"/>
                </a:lnTo>
                <a:lnTo>
                  <a:pt x="480" y="288"/>
                </a:lnTo>
                <a:lnTo>
                  <a:pt x="336" y="240"/>
                </a:lnTo>
                <a:lnTo>
                  <a:pt x="528" y="0"/>
                </a:lnTo>
                <a:lnTo>
                  <a:pt x="33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58"/>
          <p:cNvSpPr/>
          <p:nvPr/>
        </p:nvSpPr>
        <p:spPr>
          <a:xfrm>
            <a:off x="6629400" y="1828800"/>
            <a:ext cx="6094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60"/>
          <p:cNvSpPr/>
          <p:nvPr/>
        </p:nvSpPr>
        <p:spPr>
          <a:xfrm>
            <a:off x="6172200" y="2438280"/>
            <a:ext cx="6094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34"/>
          <p:cNvSpPr/>
          <p:nvPr/>
        </p:nvSpPr>
        <p:spPr>
          <a:xfrm rot="3351600">
            <a:off x="4551120" y="3441240"/>
            <a:ext cx="241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 d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functional 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36"/>
          <p:cNvSpPr/>
          <p:nvPr/>
        </p:nvSpPr>
        <p:spPr>
          <a:xfrm flipH="1" flipV="1">
            <a:off x="3885840" y="3048120"/>
            <a:ext cx="15238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fetch(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etch and predict up to ruu_decode_width instruc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lace them into </a:t>
            </a:r>
            <a:r>
              <a:rPr b="0" lang="en-US" sz="2400" spc="-1" strike="noStrike">
                <a:solidFill>
                  <a:srgbClr val="990000"/>
                </a:solidFill>
                <a:latin typeface="Arial Narrow"/>
              </a:rPr>
              <a:t>fetch_data[]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buff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puts: 2 globa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etch_regs_PC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: what fetch thinks is the next PC to fetch fro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etch_pred_PC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: what is the predicted PC for after this instruc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utput: fetch_data[] buff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etch_tail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used by ruu_fetch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etch_head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used by ruu_dispatch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etch_num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= total number of occupied fetch_data entr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uu_ifq_siz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= total number of fetch_data entr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etch places insts and Dispatch consumes the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n miss-prediction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Cs are reset to appropriate values and fetch_data is drain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ady Queu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4952880" y="46483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4952880" y="41911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4952880" y="51055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7"/>
          <p:cNvSpPr/>
          <p:nvPr/>
        </p:nvSpPr>
        <p:spPr>
          <a:xfrm>
            <a:off x="3106080" y="3962520"/>
            <a:ext cx="10112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y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8"/>
          <p:cNvSpPr/>
          <p:nvPr/>
        </p:nvSpPr>
        <p:spPr>
          <a:xfrm>
            <a:off x="4191120" y="4267080"/>
            <a:ext cx="76176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9"/>
          <p:cNvSpPr/>
          <p:nvPr/>
        </p:nvSpPr>
        <p:spPr>
          <a:xfrm>
            <a:off x="7238880" y="51055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10"/>
          <p:cNvSpPr/>
          <p:nvPr/>
        </p:nvSpPr>
        <p:spPr>
          <a:xfrm>
            <a:off x="7238880" y="46483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7238880" y="55627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12"/>
          <p:cNvSpPr/>
          <p:nvPr/>
        </p:nvSpPr>
        <p:spPr>
          <a:xfrm>
            <a:off x="6477120" y="4572000"/>
            <a:ext cx="76176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Freeform 13"/>
          <p:cNvSpPr/>
          <p:nvPr/>
        </p:nvSpPr>
        <p:spPr>
          <a:xfrm>
            <a:off x="8229600" y="4495680"/>
            <a:ext cx="685800" cy="1600200"/>
          </a:xfrm>
          <a:custGeom>
            <a:avLst/>
            <a:gdLst/>
            <a:ahLst/>
            <a:rect l="l" t="t" r="r" b="b"/>
            <a:pathLst>
              <a:path w="432" h="1008">
                <a:moveTo>
                  <a:pt x="336" y="0"/>
                </a:moveTo>
                <a:lnTo>
                  <a:pt x="144" y="240"/>
                </a:lnTo>
                <a:lnTo>
                  <a:pt x="288" y="528"/>
                </a:lnTo>
                <a:lnTo>
                  <a:pt x="0" y="1008"/>
                </a:lnTo>
                <a:lnTo>
                  <a:pt x="432" y="1008"/>
                </a:lnTo>
                <a:lnTo>
                  <a:pt x="43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4"/>
          <p:cNvSpPr/>
          <p:nvPr/>
        </p:nvSpPr>
        <p:spPr>
          <a:xfrm>
            <a:off x="2743200" y="2362320"/>
            <a:ext cx="2590920" cy="761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5"/>
          <p:cNvSpPr/>
          <p:nvPr/>
        </p:nvSpPr>
        <p:spPr>
          <a:xfrm>
            <a:off x="3761640" y="327672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Insert non-loads if r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16"/>
          <p:cNvSpPr/>
          <p:nvPr/>
        </p:nvSpPr>
        <p:spPr>
          <a:xfrm>
            <a:off x="3505320" y="3124080"/>
            <a:ext cx="3808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17"/>
          <p:cNvSpPr/>
          <p:nvPr/>
        </p:nvSpPr>
        <p:spPr>
          <a:xfrm>
            <a:off x="838080" y="1447920"/>
            <a:ext cx="2590920" cy="761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8"/>
          <p:cNvSpPr/>
          <p:nvPr/>
        </p:nvSpPr>
        <p:spPr>
          <a:xfrm>
            <a:off x="1981080" y="2209680"/>
            <a:ext cx="121932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9"/>
          <p:cNvSpPr/>
          <p:nvPr/>
        </p:nvSpPr>
        <p:spPr>
          <a:xfrm>
            <a:off x="637560" y="327672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Insert non-loads if r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20"/>
          <p:cNvSpPr/>
          <p:nvPr/>
        </p:nvSpPr>
        <p:spPr>
          <a:xfrm>
            <a:off x="1066680" y="5029200"/>
            <a:ext cx="2590920" cy="762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sq_refres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21"/>
          <p:cNvSpPr/>
          <p:nvPr/>
        </p:nvSpPr>
        <p:spPr>
          <a:xfrm flipV="1">
            <a:off x="2971800" y="441936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22"/>
          <p:cNvSpPr/>
          <p:nvPr/>
        </p:nvSpPr>
        <p:spPr>
          <a:xfrm>
            <a:off x="1432440" y="449568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Insert lo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23"/>
          <p:cNvSpPr/>
          <p:nvPr/>
        </p:nvSpPr>
        <p:spPr>
          <a:xfrm>
            <a:off x="6019920" y="2209680"/>
            <a:ext cx="2590560" cy="762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issu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24"/>
          <p:cNvSpPr/>
          <p:nvPr/>
        </p:nvSpPr>
        <p:spPr>
          <a:xfrm flipH="1">
            <a:off x="5866920" y="297180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25"/>
          <p:cNvSpPr/>
          <p:nvPr/>
        </p:nvSpPr>
        <p:spPr>
          <a:xfrm>
            <a:off x="6781320" y="3276720"/>
            <a:ext cx="16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Remove and 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to 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26"/>
          <p:cNvSpPr/>
          <p:nvPr/>
        </p:nvSpPr>
        <p:spPr>
          <a:xfrm>
            <a:off x="4965120" y="55260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S_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1"/>
          <p:cNvSpPr/>
          <p:nvPr/>
        </p:nvSpPr>
        <p:spPr>
          <a:xfrm>
            <a:off x="7010280" y="52578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28"/>
          <p:cNvSpPr/>
          <p:nvPr/>
        </p:nvSpPr>
        <p:spPr>
          <a:xfrm>
            <a:off x="7010280" y="48006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Event Queu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4724280" y="38862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4724280" y="34290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4724280" y="48006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2876760" y="3200400"/>
            <a:ext cx="994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8"/>
          <p:cNvSpPr/>
          <p:nvPr/>
        </p:nvSpPr>
        <p:spPr>
          <a:xfrm>
            <a:off x="3962520" y="3505320"/>
            <a:ext cx="76176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9"/>
          <p:cNvSpPr/>
          <p:nvPr/>
        </p:nvSpPr>
        <p:spPr>
          <a:xfrm>
            <a:off x="7010280" y="43434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7010280" y="38862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2"/>
          <p:cNvSpPr/>
          <p:nvPr/>
        </p:nvSpPr>
        <p:spPr>
          <a:xfrm>
            <a:off x="6248520" y="3809880"/>
            <a:ext cx="76176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Freeform 13"/>
          <p:cNvSpPr/>
          <p:nvPr/>
        </p:nvSpPr>
        <p:spPr>
          <a:xfrm>
            <a:off x="8001000" y="3733920"/>
            <a:ext cx="685800" cy="2057400"/>
          </a:xfrm>
          <a:custGeom>
            <a:avLst/>
            <a:gdLst/>
            <a:ahLst/>
            <a:rect l="l" t="t" r="r" b="b"/>
            <a:pathLst>
              <a:path w="432" h="1008">
                <a:moveTo>
                  <a:pt x="336" y="0"/>
                </a:moveTo>
                <a:lnTo>
                  <a:pt x="144" y="240"/>
                </a:lnTo>
                <a:lnTo>
                  <a:pt x="288" y="528"/>
                </a:lnTo>
                <a:lnTo>
                  <a:pt x="0" y="1008"/>
                </a:lnTo>
                <a:lnTo>
                  <a:pt x="432" y="1008"/>
                </a:lnTo>
                <a:lnTo>
                  <a:pt x="43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7"/>
          <p:cNvSpPr/>
          <p:nvPr/>
        </p:nvSpPr>
        <p:spPr>
          <a:xfrm>
            <a:off x="685800" y="1143000"/>
            <a:ext cx="2590920" cy="762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issu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8"/>
          <p:cNvSpPr/>
          <p:nvPr/>
        </p:nvSpPr>
        <p:spPr>
          <a:xfrm>
            <a:off x="1905120" y="1905120"/>
            <a:ext cx="10666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19"/>
          <p:cNvSpPr/>
          <p:nvPr/>
        </p:nvSpPr>
        <p:spPr>
          <a:xfrm>
            <a:off x="780840" y="2286000"/>
            <a:ext cx="28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Insert at </a:t>
            </a: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sim_cycle + la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23"/>
          <p:cNvSpPr/>
          <p:nvPr/>
        </p:nvSpPr>
        <p:spPr>
          <a:xfrm>
            <a:off x="3733920" y="1219320"/>
            <a:ext cx="2590560" cy="761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24"/>
          <p:cNvSpPr/>
          <p:nvPr/>
        </p:nvSpPr>
        <p:spPr>
          <a:xfrm flipH="1">
            <a:off x="3962520" y="1981080"/>
            <a:ext cx="12952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25"/>
          <p:cNvSpPr/>
          <p:nvPr/>
        </p:nvSpPr>
        <p:spPr>
          <a:xfrm>
            <a:off x="4913280" y="243828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Remove upon comple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26"/>
          <p:cNvSpPr/>
          <p:nvPr/>
        </p:nvSpPr>
        <p:spPr>
          <a:xfrm>
            <a:off x="4752360" y="29718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S_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27"/>
          <p:cNvSpPr/>
          <p:nvPr/>
        </p:nvSpPr>
        <p:spPr>
          <a:xfrm>
            <a:off x="4724280" y="43434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ummary of Concepts/Interfac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uu_fetch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ruu_dispatch via fetch_data buff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uu_dispatch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executes instructions in ord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reaks load/store into addr and memory o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nks to producer of input reg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names output reg to RUU or LSQ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termines if entering in miss-prediction m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rks inst via rs-&gt;recover ins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wo states: miss-speculated and corrected (reg files, memory, rename tables, etc.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y place insts in readyq if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ummary contd.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uu_issu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an readyq trying to issu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sts in readyq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uu_dispatch: non-loads if inputs are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sq_refresh: loads when certain that there are no conflic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uu_writeback: producer places consumers if they become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et fu, get latency, schedule event for writeback\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sq_refres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en loads can issu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ait until all preceding stores calculate their addres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ll if conflict with store that has no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ummary contd.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uu_writeback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ducer notifies consumers of resul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termines if producer is ready and places in readyq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pdates rename tables to indicate that the result is now in the register fi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lls recovery routines if this is a recover instruction (first miss-predicted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uu_commi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erform Stor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lease RUU and LSQ entr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Caveat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escalar uses optimizations to optimize for simulation spe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oes not simulate an event driven memory syste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e careful to make sure that you use it appropriatel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fetch() - loop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not a bogus addres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ccess I-Cache with </a:t>
            </a:r>
            <a:r>
              <a:rPr b="0" lang="en-US" sz="2800" spc="-1" strike="noStrike">
                <a:solidFill>
                  <a:srgbClr val="990000"/>
                </a:solidFill>
                <a:latin typeface="Arial Narrow"/>
              </a:rPr>
              <a:t>fetch_regs_PC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et latency of acces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ccess I-TL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hit/mis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termine overall latency as max of the tw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prediction is enabled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ccess predictor and get </a:t>
            </a:r>
            <a:r>
              <a:rPr b="0" lang="en-US" sz="2800" spc="-1" strike="noStrike">
                <a:solidFill>
                  <a:srgbClr val="990000"/>
                </a:solidFill>
                <a:latin typeface="Arial Narrow"/>
              </a:rPr>
              <a:t>fetch_pred_PC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plus a back-pointer to predictor ent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struction, PCs and prediction info go into fetch_data[fetch_tail]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etch_num++, fetch_tail++ MOD ruu_ifq_siz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I-Cache Interface – cache.[ch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che_access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*cache_il1, Read/Write, Address, *IObuffer, nbytes, CycleNow, UserData, *repl_addres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Obuffer, UserData and repl_address are usually NUL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e cache.h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at it returns is a latency in cyc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hecks if hi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f miss, accesses L2 which in turn may access main memor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ok for il1_access_fn() and ul2_access_fn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 approximation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 real, event-driven simulation of the memory syste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reful, how one interprets the simulation resul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-TLB also simulated as a cache with few entries and constant, still large miss latenc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che does not hold memory data, only the tags of cached block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ccess memory to get insts (optimization be careful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Branch Prediction Interface – bpred.[ch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pred_lookup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*pred, PC, *target_address, opcode, Call?, Return?, *back-pointer for updates, *back-pointer for stack update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turns a Predicted P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n check whether it is taken or not by comparing with the next sequential P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d_PC = PC + sizeof (md_inst_t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ventually, call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pred_updat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*pred, PC, actual target_address,  taken?, pred_taken?, opcode, back_pointer, stack back-pointer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n be called at writeback or commi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Fetch buffer: fetch_data[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ruct fetch_rec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d_inst_t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R;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lete instruc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d_addr_t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gs_PC;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urrent P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d_addr_t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d_PC;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edicted P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ruct bpred_update_t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_updat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;    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pred back-point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ack_recover_idx;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ack back-point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nsigned int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trace_seq;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int trace sequence i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etch_tail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fetch writes ther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etch_head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dispatch reads from ther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etch_num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ow many vali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fq_num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ax entr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0T02:17:43Z</dcterms:created>
  <dc:creator>Preferred Customer</dc:creator>
  <dc:description/>
  <dc:language>en-US</dc:language>
  <cp:lastModifiedBy>Andreas Moshovos</cp:lastModifiedBy>
  <cp:lastPrinted>2001-02-05T04:07:13Z</cp:lastPrinted>
  <dcterms:modified xsi:type="dcterms:W3CDTF">2017-02-06T02:45:45Z</dcterms:modified>
  <cp:revision>921</cp:revision>
  <dc:subject/>
  <dc:title>No Slide Title</dc:title>
</cp:coreProperties>
</file>